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E4FD-CF3E-457A-833A-4CE488EE6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0E90-87C4-44EF-B13B-3333A9F42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950A-45AF-4150-9FC7-8E1C61659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28AF-1534-4DFE-B40D-2D32E5D7B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F78F-7AD4-4FCB-98B2-CE9855DBE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DE0D-50C5-4A28-BA6E-55F939C20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D4E5-C63D-416B-A258-63CD8ADA0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C7FA-5BAF-4D37-AFFD-20DA073F4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F1F7-F7B6-4CC0-BDF7-AB7ACC912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5E7E-6D6B-48AA-9117-C6173DB1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9CD2-72E5-46E9-BD76-6E33B5A9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B156-392C-4219-993B-4485D788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325CE-D3F6-453A-A0C9-5ACC587763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74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nkpen2 Script"/>
              </a:rPr>
              <a:t>By Fai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lbertus"/>
              </a:rPr>
              <a:t>By faith, we are sur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lbertus"/>
              </a:rPr>
              <a:t>what we hope for, we’re certain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lbertus"/>
              </a:rPr>
              <a:t>though now we do not s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lbertus"/>
              </a:rPr>
              <a:t>By faith, we belie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lbertus"/>
              </a:rPr>
              <a:t>You created the univers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lbertus"/>
              </a:rPr>
              <a:t>You spoke- it came to b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52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By faith we will conqu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by faith we belie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the battle belongs to you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so on our kne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By faith we will cry 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By faith you will sa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By faith ‘till forev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We will live by fa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52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By faith, people pass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through the Red Sea; the walls of 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Jericho came crashing d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By faith, conquered kingdom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and justice was give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angels shut the lions’ mou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52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By faith we will conqu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by faith we belie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the battle belongs to you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so on our kne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By faith we will cry 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By faith you will sa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By faith ‘till forev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We will live by fa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74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lbertus"/>
              </a:rPr>
              <a:t>By faith, we are s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lbertus"/>
              </a:rPr>
              <a:t>What we hope for, we’re certain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lbertus"/>
              </a:rPr>
              <a:t>though now we do not s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lbertus"/>
              </a:rPr>
              <a:t>By faith, we belie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lbertus"/>
              </a:rPr>
              <a:t>You created the univers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lbertus"/>
              </a:rPr>
              <a:t>You spoke- it came to b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52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By faith we will conqu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by faith we belie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the battle belongs to you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so on our kne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By faith we will cry 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By faith you will sa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By faith ‘till forev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We will live by fa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0T19:04:44Z</dcterms:created>
  <dc:creator>Peter Rivezzo</dc:creator>
  <dc:description/>
  <dc:language>en-US</dc:language>
  <cp:lastModifiedBy>Peter Rivezzo</cp:lastModifiedBy>
  <dcterms:modified xsi:type="dcterms:W3CDTF">2010-03-05T19:28:37Z</dcterms:modified>
  <cp:revision>2</cp:revision>
  <dc:subject/>
  <dc:title>Slide 1</dc:title>
</cp:coreProperties>
</file>